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13.wmf" ContentType="image/x-wmf"/>
  <Override PartName="/ppt/media/image9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23.png" ContentType="image/png"/>
  <Override PartName="/ppt/media/image22.png" ContentType="image/png"/>
  <Override PartName="/ppt/media/image20.jpeg" ContentType="image/jpeg"/>
  <Override PartName="/ppt/media/image18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3"/>
          </p:nvPr>
        </p:nvSpPr>
        <p:spPr>
          <a:xfrm>
            <a:off x="3847680" y="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4"/>
          </p:nvPr>
        </p:nvSpPr>
        <p:spPr>
          <a:xfrm>
            <a:off x="-36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5"/>
          </p:nvPr>
        </p:nvSpPr>
        <p:spPr>
          <a:xfrm>
            <a:off x="384768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46C74258-C3C2-4668-B8FE-8E3DD9059C16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D4FF45F1-A3DF-44BD-88B4-12929172C36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ußzeilenplatzhalter 3"/>
          <p:cNvSpPr/>
          <p:nvPr/>
        </p:nvSpPr>
        <p:spPr>
          <a:xfrm>
            <a:off x="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oliennummernplatzhalter 4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165909-2CCF-4F20-BB10-1EA4041B6FB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617E7F4-F72E-4CDF-970F-828DF9FA2DC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C6986BA8-67A9-49A1-80B2-09857E60543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816759CB-4E1D-44C4-855A-E6E56695CDA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49F34B44-211D-477C-B88A-A69D0B17D32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A3FC2-432E-42E6-AD22-C270C5F017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22CF8-89B4-402A-A46D-7287E7C854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377B7-1E81-4F8F-9234-111C38CB84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7304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480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25092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7304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9480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E67DF-2782-4D1D-8C55-531D9A5A9D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78BAE-80DE-4D68-998E-6B5274F8FE1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75F86-87E1-44DE-AE7D-2972B187073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9237B-3B61-4C74-9FAA-33FF99E993F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F93AB-FF5E-464F-BE5F-055E94DF07B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11212-0A64-4035-ACCC-F43BB6C5C29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549440" y="210600"/>
            <a:ext cx="712800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32DE8-CB3B-464E-A2B1-2C139676FFE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35D1F-8365-4FDC-A4F5-C69A08B374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FE778-1DC2-4C6B-A24A-7A91999999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982FF-79ED-4D0E-8A48-EEA74786E86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50BD4-4148-4DCA-BDA9-F01A8EDB352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25A7E-DC25-4373-A796-65564D18A6D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066E8-C386-4DD3-A787-16109BDD8B1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17304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9480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25092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17304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9480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EBE7E-5F27-445F-9363-EFC165FB11C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59FBC-6EA2-47B3-A9F5-82037F2843A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549440" y="210600"/>
            <a:ext cx="712800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17304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9480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25092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17304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9480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ACDC5-CE85-4ADD-ADF1-67E33B417C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816C7-2C0C-4CE7-81E9-08B16C8DC5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549440" y="210600"/>
            <a:ext cx="712800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C26CB-65B2-411F-9326-806E5E48C4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C7A45-4F08-4BDE-A435-46C01E6A46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C5C2F-AFCC-43BB-AB3B-FDA30FC61A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5452B-3738-429D-98DC-A067868D78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AutoShape 17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26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AutoShape 19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20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32080" indent="-33660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ldNum" idx="1"/>
          </p:nvPr>
        </p:nvSpPr>
        <p:spPr>
          <a:xfrm>
            <a:off x="838800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b2b2b2"/>
                </a:solidFill>
                <a:latin typeface="Times New Roman"/>
              </a:rPr>
              <a:t>&gt;&gt;</a:t>
            </a:r>
            <a:r>
              <a:rPr b="0" lang="de-DE" sz="2400" spc="-1" strike="noStrike">
                <a:solidFill>
                  <a:srgbClr val="b2b2b2"/>
                </a:solidFill>
                <a:latin typeface="Times New Roman"/>
              </a:rPr>
              <a:t>	</a:t>
            </a:r>
            <a:fld id="{527124AB-1049-4273-9B85-71370A1387C9}" type="slidenum">
              <a:rPr b="0" lang="de-DE" sz="24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" name="Picture 21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9" name="AutoShape 3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30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Grafik 15" descr=""/>
          <p:cNvPicPr/>
          <p:nvPr/>
        </p:nvPicPr>
        <p:blipFill>
          <a:blip r:embed="rId3"/>
          <a:stretch/>
        </p:blipFill>
        <p:spPr>
          <a:xfrm>
            <a:off x="179280" y="311040"/>
            <a:ext cx="1152720" cy="37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1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Num" idx="2"/>
          </p:nvPr>
        </p:nvSpPr>
        <p:spPr>
          <a:xfrm>
            <a:off x="838800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bbe0e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bbe0e3"/>
                </a:solidFill>
                <a:latin typeface="Times New Roman"/>
              </a:rPr>
              <a:t>&gt;&gt;</a:t>
            </a:r>
            <a:r>
              <a:rPr b="0" lang="de-DE" sz="2400" spc="-1" strike="noStrike">
                <a:solidFill>
                  <a:srgbClr val="bbe0e3"/>
                </a:solidFill>
                <a:latin typeface="Times New Roman"/>
              </a:rPr>
              <a:t>	</a:t>
            </a:r>
            <a:fld id="{559BF033-65AC-418C-AEDC-7B9CD01D0C5F}" type="slidenum">
              <a:rPr b="0" lang="de-DE" sz="2400" spc="-1" strike="noStrike">
                <a:solidFill>
                  <a:srgbClr val="bbe0e3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57" name="Picture 22" descr="header_chip"/>
          <p:cNvPicPr/>
          <p:nvPr/>
        </p:nvPicPr>
        <p:blipFill>
          <a:blip r:embed="rId2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balken"/>
          <p:cNvPicPr/>
          <p:nvPr/>
        </p:nvPicPr>
        <p:blipFill>
          <a:blip r:embed="rId3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17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eaeaea"/>
                </a:solidFill>
                <a:latin typeface="Arial"/>
              </a:rPr>
              <a:t>© 2011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Grafik 16" descr=""/>
          <p:cNvPicPr/>
          <p:nvPr/>
        </p:nvPicPr>
        <p:blipFill>
          <a:blip r:embed="rId4"/>
          <a:stretch/>
        </p:blipFill>
        <p:spPr>
          <a:xfrm>
            <a:off x="179280" y="311040"/>
            <a:ext cx="1152720" cy="37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325080" y="6613560"/>
            <a:ext cx="332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b2b2b2"/>
                </a:solidFill>
                <a:latin typeface="Arial"/>
              </a:rPr>
              <a:t>© Copyright 2010 ecsec GmbH, All Rights Reserved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2" descr="ecsec-logo_tr_final"/>
          <p:cNvPicPr/>
          <p:nvPr/>
        </p:nvPicPr>
        <p:blipFill>
          <a:blip r:embed="rId2"/>
          <a:stretch/>
        </p:blipFill>
        <p:spPr>
          <a:xfrm>
            <a:off x="3635280" y="5013360"/>
            <a:ext cx="2305080" cy="109368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28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5" descr="startseite-hellgrau"/>
          <p:cNvPicPr/>
          <p:nvPr/>
        </p:nvPicPr>
        <p:blipFill>
          <a:blip r:embed="rId3"/>
          <a:srcRect l="567" t="781" r="567" b="781"/>
          <a:stretch/>
        </p:blipFill>
        <p:spPr>
          <a:xfrm>
            <a:off x="395280" y="395280"/>
            <a:ext cx="8353440" cy="604836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  <p:sp>
        <p:nvSpPr>
          <p:cNvPr id="103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body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32080" indent="-33660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8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4920" y="2204640"/>
            <a:ext cx="852948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4d4d4d"/>
                </a:solidFill>
                <a:latin typeface="Arial"/>
              </a:rPr>
              <a:t>Identitätsmanagement im Cloud Computing aus rechtlicher Perspektive </a:t>
            </a:r>
            <a:br>
              <a:rPr sz="3600"/>
            </a:br>
            <a:br>
              <a:rPr sz="2400"/>
            </a:b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2843280" y="40053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Grafik 2" descr=""/>
          <p:cNvPicPr/>
          <p:nvPr/>
        </p:nvPicPr>
        <p:blipFill>
          <a:blip r:embed="rId1"/>
          <a:stretch/>
        </p:blipFill>
        <p:spPr>
          <a:xfrm>
            <a:off x="2997360" y="739800"/>
            <a:ext cx="3408120" cy="1117440"/>
          </a:xfrm>
          <a:prstGeom prst="rect">
            <a:avLst/>
          </a:prstGeom>
          <a:ln w="0">
            <a:noFill/>
          </a:ln>
        </p:spPr>
      </p:pic>
      <p:sp>
        <p:nvSpPr>
          <p:cNvPr id="152" name="Textfeld 1"/>
          <p:cNvSpPr/>
          <p:nvPr/>
        </p:nvSpPr>
        <p:spPr>
          <a:xfrm>
            <a:off x="520560" y="5940360"/>
            <a:ext cx="41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d4d4d"/>
                </a:solidFill>
                <a:latin typeface="Arial"/>
              </a:rPr>
              <a:t>Stephan Sädtler (Universität Passau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Grafik 3" descr=""/>
          <p:cNvPicPr/>
          <p:nvPr/>
        </p:nvPicPr>
        <p:blipFill>
          <a:blip r:embed="rId2"/>
          <a:stretch/>
        </p:blipFill>
        <p:spPr>
          <a:xfrm>
            <a:off x="6843600" y="4546440"/>
            <a:ext cx="1729080" cy="1425600"/>
          </a:xfrm>
          <a:prstGeom prst="rect">
            <a:avLst/>
          </a:prstGeom>
          <a:ln w="0">
            <a:noFill/>
          </a:ln>
        </p:spPr>
      </p:pic>
      <p:pic>
        <p:nvPicPr>
          <p:cNvPr id="154" name="Grafik 2" descr=""/>
          <p:cNvPicPr/>
          <p:nvPr/>
        </p:nvPicPr>
        <p:blipFill>
          <a:blip r:embed="rId3"/>
          <a:stretch/>
        </p:blipFill>
        <p:spPr>
          <a:xfrm>
            <a:off x="579600" y="4592520"/>
            <a:ext cx="2447640" cy="9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Übersicht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leitung: Datenschutz und Datensicherheit im Cloud Comp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deutung des IDM im Cloud Comp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schutzrechtlicher Umgang mit Identitätsda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Einsatz elektronischer Ausweise als technisch-organisatorische Maßnahme – Projekt SkIDe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chtliche Herausforderungen und Chanc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az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Doppelrelevanz des § 9 BDSG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utz der Cloud Inhaltsdaten du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chere Authentisi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D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chte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utz der Identitätsdaten selbst du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chere Infrastrukt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sundheitska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onsti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SkIDentity – Referenzarchitektur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9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73B18E24-9962-4016-953D-86074B76CE59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Grafik 4" descr=""/>
          <p:cNvPicPr/>
          <p:nvPr/>
        </p:nvPicPr>
        <p:blipFill>
          <a:blip r:embed="rId1"/>
          <a:stretch/>
        </p:blipFill>
        <p:spPr>
          <a:xfrm>
            <a:off x="611280" y="1123920"/>
            <a:ext cx="8066160" cy="519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42880" y="259920"/>
            <a:ext cx="770112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eID-Funktion nPA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2" name="Rechteck 7"/>
          <p:cNvSpPr/>
          <p:nvPr/>
        </p:nvSpPr>
        <p:spPr>
          <a:xfrm>
            <a:off x="820800" y="3244680"/>
            <a:ext cx="2786040" cy="64296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ersonalausweis-behörd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hteck 9"/>
          <p:cNvSpPr/>
          <p:nvPr/>
        </p:nvSpPr>
        <p:spPr>
          <a:xfrm>
            <a:off x="820800" y="1214280"/>
            <a:ext cx="2786040" cy="50040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usweisinhab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hteck 10"/>
          <p:cNvSpPr/>
          <p:nvPr/>
        </p:nvSpPr>
        <p:spPr>
          <a:xfrm>
            <a:off x="6643800" y="1214280"/>
            <a:ext cx="2224080" cy="50040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iensteanbie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hteck 11"/>
          <p:cNvSpPr/>
          <p:nvPr/>
        </p:nvSpPr>
        <p:spPr>
          <a:xfrm>
            <a:off x="820800" y="5418000"/>
            <a:ext cx="2786040" cy="67968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Hersteller (z.Z. Bundesdruckerei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hteck 12"/>
          <p:cNvSpPr/>
          <p:nvPr/>
        </p:nvSpPr>
        <p:spPr>
          <a:xfrm>
            <a:off x="6143760" y="3581280"/>
            <a:ext cx="2857320" cy="113364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ergabestelle für Berechtigungs-zertifikate (ggf.: Sperrlistenbetreiber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hteck 13"/>
          <p:cNvSpPr/>
          <p:nvPr/>
        </p:nvSpPr>
        <p:spPr>
          <a:xfrm>
            <a:off x="4708440" y="5643720"/>
            <a:ext cx="2363760" cy="78552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atenschutz-aufsichtsbehörd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Gerade Verbindung mit Pfeil 15"/>
          <p:cNvCxnSpPr/>
          <p:nvPr/>
        </p:nvCxnSpPr>
        <p:spPr>
          <a:xfrm>
            <a:off x="2428560" y="1714680"/>
            <a:ext cx="1080" cy="1530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9" name="Gerade Verbindung mit Pfeil 16"/>
          <p:cNvCxnSpPr/>
          <p:nvPr/>
        </p:nvCxnSpPr>
        <p:spPr>
          <a:xfrm flipV="1">
            <a:off x="1929960" y="1714320"/>
            <a:ext cx="1080" cy="1530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0" name="Textfeld 23"/>
          <p:cNvSpPr/>
          <p:nvPr/>
        </p:nvSpPr>
        <p:spPr>
          <a:xfrm>
            <a:off x="2398680" y="2214720"/>
            <a:ext cx="150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. Antra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feld 24"/>
          <p:cNvSpPr/>
          <p:nvPr/>
        </p:nvSpPr>
        <p:spPr>
          <a:xfrm>
            <a:off x="357120" y="4309920"/>
            <a:ext cx="1785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. Produktions-prozes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Gerade Verbindung mit Pfeil 25"/>
          <p:cNvCxnSpPr>
            <a:endCxn id="182" idx="2"/>
          </p:cNvCxnSpPr>
          <p:nvPr/>
        </p:nvCxnSpPr>
        <p:spPr>
          <a:xfrm flipV="1">
            <a:off x="2212560" y="3887280"/>
            <a:ext cx="2520" cy="758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3" name="Gerade Verbindung mit Pfeil 28"/>
          <p:cNvCxnSpPr/>
          <p:nvPr/>
        </p:nvCxnSpPr>
        <p:spPr>
          <a:xfrm flipH="1">
            <a:off x="2214360" y="4250880"/>
            <a:ext cx="2160" cy="1189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4" name="Textfeld 33"/>
          <p:cNvSpPr/>
          <p:nvPr/>
        </p:nvSpPr>
        <p:spPr>
          <a:xfrm>
            <a:off x="285840" y="2000160"/>
            <a:ext cx="1785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. Ausgabe / Erklärung über Nutzu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Gerade Verbindung mit Pfeil 35"/>
          <p:cNvCxnSpPr/>
          <p:nvPr/>
        </p:nvCxnSpPr>
        <p:spPr>
          <a:xfrm>
            <a:off x="7214760" y="1714320"/>
            <a:ext cx="1080" cy="1867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6" name="Gerade Verbindung mit Pfeil 46"/>
          <p:cNvCxnSpPr/>
          <p:nvPr/>
        </p:nvCxnSpPr>
        <p:spPr>
          <a:xfrm flipV="1">
            <a:off x="7357680" y="1713960"/>
            <a:ext cx="1080" cy="1867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7" name="Textfeld 54"/>
          <p:cNvSpPr/>
          <p:nvPr/>
        </p:nvSpPr>
        <p:spPr>
          <a:xfrm>
            <a:off x="6143760" y="2487600"/>
            <a:ext cx="150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4. Antra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feld 56"/>
          <p:cNvSpPr/>
          <p:nvPr/>
        </p:nvSpPr>
        <p:spPr>
          <a:xfrm>
            <a:off x="7500960" y="2071800"/>
            <a:ext cx="150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5. Prüfung,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ergabe, Übermittlung Sperrlist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9" name="Gerade Verbindung mit Pfeil 61"/>
          <p:cNvCxnSpPr/>
          <p:nvPr/>
        </p:nvCxnSpPr>
        <p:spPr>
          <a:xfrm>
            <a:off x="3921120" y="1428840"/>
            <a:ext cx="23565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0" name="Gerade Verbindung mit Pfeil 90"/>
          <p:cNvCxnSpPr/>
          <p:nvPr/>
        </p:nvCxnSpPr>
        <p:spPr>
          <a:xfrm flipH="1" flipV="1">
            <a:off x="3895200" y="1428480"/>
            <a:ext cx="2286720" cy="2160"/>
          </a:xfrm>
          <a:prstGeom prst="straightConnector1">
            <a:avLst/>
          </a:prstGeom>
          <a:ln w="38160">
            <a:solidFill>
              <a:srgbClr val="3399ff"/>
            </a:solidFill>
            <a:miter/>
            <a:tailEnd len="med" type="arrow" w="med"/>
          </a:ln>
        </p:spPr>
      </p:cxnSp>
      <p:sp>
        <p:nvSpPr>
          <p:cNvPr id="201" name="Textfeld 96"/>
          <p:cNvSpPr/>
          <p:nvPr/>
        </p:nvSpPr>
        <p:spPr>
          <a:xfrm>
            <a:off x="3649680" y="1515960"/>
            <a:ext cx="291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6. Datenübermittlung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Zweipersonenverhältnis!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2" name="Gerade Verbindung mit Pfeil 97"/>
          <p:cNvCxnSpPr>
            <a:stCxn id="187" idx="0"/>
            <a:endCxn id="186" idx="2"/>
          </p:cNvCxnSpPr>
          <p:nvPr/>
        </p:nvCxnSpPr>
        <p:spPr>
          <a:xfrm flipV="1">
            <a:off x="5891040" y="4714560"/>
            <a:ext cx="1681920" cy="929520"/>
          </a:xfrm>
          <a:prstGeom prst="straightConnector1">
            <a:avLst/>
          </a:prstGeom>
          <a:ln w="38160">
            <a:solidFill>
              <a:srgbClr val="3399ff"/>
            </a:solidFill>
            <a:miter/>
            <a:tailEnd len="med" type="arrow" w="med"/>
          </a:ln>
        </p:spPr>
      </p:cxnSp>
      <p:sp>
        <p:nvSpPr>
          <p:cNvPr id="203" name="Textfeld 100"/>
          <p:cNvSpPr/>
          <p:nvPr/>
        </p:nvSpPr>
        <p:spPr>
          <a:xfrm>
            <a:off x="7072200" y="5000760"/>
            <a:ext cx="2357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Ggf. Verlangen</a:t>
            </a:r>
            <a:r>
              <a:rPr b="1" lang="de-DE" sz="1200" spc="-1" strike="noStrike">
                <a:solidFill>
                  <a:srgbClr val="f5821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von</a:t>
            </a:r>
            <a:r>
              <a:rPr b="1" lang="de-DE" sz="1200" spc="-1" strike="noStrike">
                <a:solidFill>
                  <a:srgbClr val="f5821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Rücknahme / Widerruf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Gerade Verbindung mit Pfeil 104"/>
          <p:cNvCxnSpPr>
            <a:stCxn id="182" idx="3"/>
            <a:endCxn id="186" idx="1"/>
          </p:cNvCxnSpPr>
          <p:nvPr/>
        </p:nvCxnSpPr>
        <p:spPr>
          <a:xfrm>
            <a:off x="3606480" y="3565080"/>
            <a:ext cx="2537640" cy="583560"/>
          </a:xfrm>
          <a:prstGeom prst="straightConnector1">
            <a:avLst/>
          </a:prstGeom>
          <a:ln w="38160">
            <a:solidFill>
              <a:srgbClr val="3399ff"/>
            </a:solidFill>
            <a:miter/>
            <a:tailEnd len="med" type="arrow" w="med"/>
          </a:ln>
        </p:spPr>
      </p:cxnSp>
      <p:cxnSp>
        <p:nvCxnSpPr>
          <p:cNvPr id="205" name="Gerade Verbindung mit Pfeil 107"/>
          <p:cNvCxnSpPr/>
          <p:nvPr/>
        </p:nvCxnSpPr>
        <p:spPr>
          <a:xfrm>
            <a:off x="3147840" y="1714320"/>
            <a:ext cx="2996640" cy="2215080"/>
          </a:xfrm>
          <a:prstGeom prst="straightConnector1">
            <a:avLst/>
          </a:prstGeom>
          <a:ln w="38160">
            <a:solidFill>
              <a:srgbClr val="3399ff"/>
            </a:solidFill>
            <a:miter/>
            <a:tailEnd len="med" type="arrow" w="med"/>
          </a:ln>
        </p:spPr>
      </p:cxnSp>
      <p:sp>
        <p:nvSpPr>
          <p:cNvPr id="206" name="Textfeld 110"/>
          <p:cNvSpPr/>
          <p:nvPr/>
        </p:nvSpPr>
        <p:spPr>
          <a:xfrm>
            <a:off x="4446720" y="3441600"/>
            <a:ext cx="128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Sperru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feld 111"/>
          <p:cNvSpPr/>
          <p:nvPr/>
        </p:nvSpPr>
        <p:spPr>
          <a:xfrm>
            <a:off x="3798720" y="3211560"/>
            <a:ext cx="16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Veranlassu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8" name="Gerade Verbindung mit Pfeil 112"/>
          <p:cNvCxnSpPr/>
          <p:nvPr/>
        </p:nvCxnSpPr>
        <p:spPr>
          <a:xfrm>
            <a:off x="3147480" y="1714680"/>
            <a:ext cx="1561320" cy="3929760"/>
          </a:xfrm>
          <a:prstGeom prst="straightConnector1">
            <a:avLst/>
          </a:prstGeom>
          <a:ln w="38160">
            <a:solidFill>
              <a:srgbClr val="3399ff"/>
            </a:solidFill>
            <a:miter/>
            <a:tailEnd len="med" type="arrow" w="med"/>
          </a:ln>
        </p:spPr>
      </p:cxnSp>
      <p:sp>
        <p:nvSpPr>
          <p:cNvPr id="209" name="Textfeld 114"/>
          <p:cNvSpPr/>
          <p:nvPr/>
        </p:nvSpPr>
        <p:spPr>
          <a:xfrm>
            <a:off x="4383000" y="4572000"/>
            <a:ext cx="164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Beschwerd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SkIDentity – Service Provider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1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0F979B39-AE84-45E8-9FCB-30CBE3E69F0A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Objekt 4"/>
          <p:cNvGraphicFramePr/>
          <p:nvPr/>
        </p:nvGraphicFramePr>
        <p:xfrm>
          <a:off x="2241720" y="4546440"/>
          <a:ext cx="1008000" cy="90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Objek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41720" y="4546440"/>
                    <a:ext cx="1008000" cy="90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Objekt 5"/>
          <p:cNvGraphicFramePr/>
          <p:nvPr/>
        </p:nvGraphicFramePr>
        <p:xfrm>
          <a:off x="6145200" y="4622760"/>
          <a:ext cx="855720" cy="10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5" name="Objek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45200" y="4622760"/>
                    <a:ext cx="85572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Grafik 11" descr=""/>
          <p:cNvPicPr/>
          <p:nvPr/>
        </p:nvPicPr>
        <p:blipFill>
          <a:blip r:embed="rId5"/>
          <a:stretch/>
        </p:blipFill>
        <p:spPr>
          <a:xfrm>
            <a:off x="1571760" y="3645000"/>
            <a:ext cx="1617480" cy="2049480"/>
          </a:xfrm>
          <a:prstGeom prst="rect">
            <a:avLst/>
          </a:prstGeom>
          <a:ln w="0">
            <a:noFill/>
          </a:ln>
        </p:spPr>
      </p:pic>
      <p:sp>
        <p:nvSpPr>
          <p:cNvPr id="217" name="Textfeld 14"/>
          <p:cNvSpPr/>
          <p:nvPr/>
        </p:nvSpPr>
        <p:spPr>
          <a:xfrm>
            <a:off x="7366680" y="50608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feld 16"/>
          <p:cNvSpPr/>
          <p:nvPr/>
        </p:nvSpPr>
        <p:spPr>
          <a:xfrm>
            <a:off x="2213280" y="552276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feld 12"/>
          <p:cNvSpPr/>
          <p:nvPr/>
        </p:nvSpPr>
        <p:spPr>
          <a:xfrm>
            <a:off x="5267520" y="240336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d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28"/>
          <p:cNvSpPr/>
          <p:nvPr/>
        </p:nvSpPr>
        <p:spPr>
          <a:xfrm flipV="1">
            <a:off x="1944720" y="2990880"/>
            <a:ext cx="1301760" cy="14810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28"/>
          <p:cNvSpPr/>
          <p:nvPr/>
        </p:nvSpPr>
        <p:spPr>
          <a:xfrm>
            <a:off x="3268800" y="5060880"/>
            <a:ext cx="26715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uppieren 78"/>
          <p:cNvGrpSpPr/>
          <p:nvPr/>
        </p:nvGrpSpPr>
        <p:grpSpPr>
          <a:xfrm>
            <a:off x="2957400" y="1601640"/>
            <a:ext cx="5538960" cy="1365480"/>
            <a:chOff x="2957400" y="1601640"/>
            <a:chExt cx="5538960" cy="1365480"/>
          </a:xfrm>
        </p:grpSpPr>
        <p:sp>
          <p:nvSpPr>
            <p:cNvPr id="223" name="Gerade Verbindung 95"/>
            <p:cNvSpPr/>
            <p:nvPr/>
          </p:nvSpPr>
          <p:spPr>
            <a:xfrm flipV="1">
              <a:off x="3960720" y="2434320"/>
              <a:ext cx="1411200" cy="1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Abgerundetes Rechteck 80"/>
            <p:cNvSpPr/>
            <p:nvPr/>
          </p:nvSpPr>
          <p:spPr>
            <a:xfrm>
              <a:off x="2957400" y="1994400"/>
              <a:ext cx="987480" cy="880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00000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5" name="Abgerundetes Rechteck 81"/>
            <p:cNvGrpSpPr/>
            <p:nvPr/>
          </p:nvGrpSpPr>
          <p:grpSpPr>
            <a:xfrm>
              <a:off x="4145040" y="1961280"/>
              <a:ext cx="1121760" cy="1005840"/>
              <a:chOff x="4145040" y="1961280"/>
              <a:chExt cx="1121760" cy="1005840"/>
            </a:xfrm>
          </p:grpSpPr>
          <p:pic>
            <p:nvPicPr>
              <p:cNvPr id="226" name="Abgerundetes Rechteck 81" descr=""/>
              <p:cNvPicPr/>
              <p:nvPr/>
            </p:nvPicPr>
            <p:blipFill>
              <a:blip r:embed="rId6"/>
              <a:stretch/>
            </p:blipFill>
            <p:spPr>
              <a:xfrm>
                <a:off x="4145040" y="1961280"/>
                <a:ext cx="1121760" cy="1005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7" name=""/>
              <p:cNvSpPr/>
              <p:nvPr/>
            </p:nvSpPr>
            <p:spPr>
              <a:xfrm>
                <a:off x="4224240" y="2036880"/>
                <a:ext cx="897120" cy="79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" name="Abgerundetes Rechteck 82"/>
            <p:cNvSpPr/>
            <p:nvPr/>
          </p:nvSpPr>
          <p:spPr>
            <a:xfrm>
              <a:off x="5371920" y="1994400"/>
              <a:ext cx="988920" cy="880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00000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9" name="Diagramm 83" descr=""/>
            <p:cNvPicPr/>
            <p:nvPr/>
          </p:nvPicPr>
          <p:blipFill>
            <a:blip r:embed="rId7"/>
            <a:stretch/>
          </p:blipFill>
          <p:spPr>
            <a:xfrm>
              <a:off x="4200120" y="1972800"/>
              <a:ext cx="865440" cy="92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Textfeld 13"/>
            <p:cNvSpPr/>
            <p:nvPr/>
          </p:nvSpPr>
          <p:spPr>
            <a:xfrm>
              <a:off x="3948840" y="1601640"/>
              <a:ext cx="148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eID-Broker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1" name="Grafik 14" descr=""/>
            <p:cNvPicPr/>
            <p:nvPr/>
          </p:nvPicPr>
          <p:blipFill>
            <a:blip r:embed="rId8"/>
            <a:stretch/>
          </p:blipFill>
          <p:spPr>
            <a:xfrm>
              <a:off x="3207960" y="2041560"/>
              <a:ext cx="622080" cy="8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Grafik 15" descr=""/>
            <p:cNvPicPr/>
            <p:nvPr/>
          </p:nvPicPr>
          <p:blipFill>
            <a:blip r:embed="rId9"/>
            <a:stretch/>
          </p:blipFill>
          <p:spPr>
            <a:xfrm>
              <a:off x="5703840" y="2026440"/>
              <a:ext cx="325440" cy="78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Grafik 98" descr=""/>
            <p:cNvPicPr/>
            <p:nvPr/>
          </p:nvPicPr>
          <p:blipFill>
            <a:blip r:embed="rId10"/>
            <a:stretch/>
          </p:blipFill>
          <p:spPr>
            <a:xfrm>
              <a:off x="6803280" y="2085120"/>
              <a:ext cx="1693080" cy="527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4" name="Line 28"/>
          <p:cNvSpPr/>
          <p:nvPr/>
        </p:nvSpPr>
        <p:spPr>
          <a:xfrm flipV="1">
            <a:off x="3141720" y="2990880"/>
            <a:ext cx="2724120" cy="16509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Ellipse 1"/>
          <p:cNvSpPr/>
          <p:nvPr/>
        </p:nvSpPr>
        <p:spPr>
          <a:xfrm>
            <a:off x="5580000" y="4076640"/>
            <a:ext cx="2592360" cy="2232000"/>
          </a:xfrm>
          <a:prstGeom prst="ellipse">
            <a:avLst/>
          </a:prstGeom>
          <a:noFill/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Probleme des 2-Personen-Verhältnisses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Jeder Diensteanbieter (= jeder Cloud-Provider, jede Behörde, ggf. jedes Fachverfahren!) benötigt ein eigenes Berechtigungszertifikat, § 21 PAusw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tragsverfahren und Betrieb des eID-Servers als Kostentrei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KMUs als Cloud Provi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kleine Kommunen / Behö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ber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gerad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Chancen für die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ostenvorteile durch nutzungsbezogene Abrechn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gf. sogar erstmalige Chance, bestimmte Dienstleistungen anzubieten, die sonst zu hohe Grundkosten hät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CAD75778-6ADF-4D9B-BCB5-42DA7D65EE03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feld 4"/>
          <p:cNvSpPr/>
          <p:nvPr/>
        </p:nvSpPr>
        <p:spPr>
          <a:xfrm>
            <a:off x="1290240" y="6297480"/>
            <a:ext cx="104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alibri"/>
                <a:ea typeface="MS PGothic"/>
              </a:rPr>
              <a:t>Quelle: Hornun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Übersicht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leitung: Datenschutz und Datensicherheit im Cloud Comp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deutung des IDM im Cloud Comp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schutzrechtlicher Umgang mit Identitätsda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satz von elektronischer Ausweise als technisch-organisatorische Maßnahme – Projekt SkIDe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Rechtliche Herausforderungen und Chanc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az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528920" y="188640"/>
            <a:ext cx="7526160" cy="63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Personalausweisrecht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§ 21 II 1 Nr. 2 PAuswG: „geschäftsmäßige Übermittlung der Daten“ rechtswidr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§ 29 I Nr. 1 PAuswV: kein Zertifikat, wenn „der Zweck der Datenerhebung ausschließlich in der Auslesung oder Bereitstellung personenbezogener Daten aus dem Personalausweis                          für den Ausweisinhaber oder Dritte besteht“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E95FA134-140C-45D2-9B6E-D472A16494B0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feld 4"/>
          <p:cNvSpPr/>
          <p:nvPr/>
        </p:nvSpPr>
        <p:spPr>
          <a:xfrm>
            <a:off x="684360" y="3141720"/>
            <a:ext cx="33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Calibri"/>
                <a:ea typeface="MS PGothic"/>
              </a:rPr>
              <a:t>----------------------------------------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Europarechtliche Hürden?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ordnungsentwurf der Kommission: eIAS-V-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kzeptanzpflicht „notifizierter“ eID-Systeme anderer MS (Art. 5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aatliche e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eine Notifzierung von Systemen die „bestimmte technische Vorgaben“ machen bzw. kostenpflichtig sind (Art. 6 I d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aftung für „eindeutige Zuordnung der Personenidentifizierungsdaten“ und „Authentifizierungsmöglichkeit“ (Art. 6 I 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swirkunge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P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sundheitskarte, § 291a SGB 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onstige, z.B. § 6 DeMail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Lösungsansätze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lgemeines Datenschutzre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öderiertes ID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seudonymisierung und Anonymisi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ersonalausweisre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währleistung der selbstbestimmten Verfügung des Ausweisinha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AS-V-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heitliche Schnittste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hne Nachteile eines zentralen „Gateways“ (STOR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Übersicht</a:t>
            </a: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Einleitung: Datenschutz und Datensicherheit im Cloud Comp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deutung des IDM im Cloud Comp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schutzrechtlicher Umgang mit Identitätsda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satz elektronischer Ausweise als technisch-organisatorische Maßnahme – Projekt SkIDe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chtliche Herausforderungen und Chanc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az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Übersicht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leitung: Datenschutz und Datensicherheit im Cloud Comp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deutung des IDM im Cloud Comp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schutzrechtlicher Umgang mit Identitätsda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satz elektronischer Ausweise als technisch-organisatorische Maßnahme – Projekt SkIDe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chtliche Herausforderungen und Chanc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Faz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Fazit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gelöste Probleme des Datenschutzrechts im 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bhilfe zumindest im Bereich des IDM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satz elektronischer Ausweise und föderiertes I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echnisch vorteilha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chtlich: Chance und Risik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itere Herausforderung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ets Verfolgung eines interdisziplinäreren Ansatzes zur rechtskonformen Technikgestal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69614CA2-39DC-480D-8D61-3EB8E8CC7C44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de-DE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325080" y="6613560"/>
            <a:ext cx="332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b2b2b2"/>
                </a:solidFill>
                <a:latin typeface="Arial"/>
              </a:rPr>
              <a:t>© Copyright 2010 ecsec GmbH, All Rights Reserved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6"/>
          <p:cNvSpPr/>
          <p:nvPr/>
        </p:nvSpPr>
        <p:spPr>
          <a:xfrm>
            <a:off x="614520" y="21621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4d4d4d"/>
                </a:solidFill>
                <a:latin typeface="Arial"/>
              </a:rPr>
              <a:t>Titelmasterformat durch Klicken bearbeite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7"/>
          <p:cNvSpPr/>
          <p:nvPr/>
        </p:nvSpPr>
        <p:spPr>
          <a:xfrm>
            <a:off x="614520" y="43340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Formatvorlage des Untertitelmasters durch Klicken bearbei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9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0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2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11" descr="prozessor-hellgrau"/>
          <p:cNvPicPr/>
          <p:nvPr/>
        </p:nvPicPr>
        <p:blipFill>
          <a:blip r:embed="rId1"/>
          <a:stretch/>
        </p:blipFill>
        <p:spPr>
          <a:xfrm>
            <a:off x="395280" y="395280"/>
            <a:ext cx="8353440" cy="598644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  <p:sp>
        <p:nvSpPr>
          <p:cNvPr id="264" name="Rectangle 17"/>
          <p:cNvSpPr/>
          <p:nvPr/>
        </p:nvSpPr>
        <p:spPr>
          <a:xfrm>
            <a:off x="1332000" y="708120"/>
            <a:ext cx="6696000" cy="1368360"/>
          </a:xfrm>
          <a:prstGeom prst="rect">
            <a:avLst/>
          </a:prstGeom>
          <a:solidFill>
            <a:srgbClr val="fafafa">
              <a:alpha val="67000"/>
            </a:srgbClr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4"/>
          <p:cNvSpPr/>
          <p:nvPr/>
        </p:nvSpPr>
        <p:spPr>
          <a:xfrm>
            <a:off x="1545120" y="692280"/>
            <a:ext cx="6188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4d4d4d"/>
                </a:solidFill>
                <a:latin typeface="Arial"/>
              </a:rPr>
              <a:t>Herzlichen Dank </a:t>
            </a:r>
            <a:br>
              <a:rPr sz="4000"/>
            </a:br>
            <a:r>
              <a:rPr b="1" lang="de-DE" sz="4000" spc="-1" strike="noStrike">
                <a:solidFill>
                  <a:srgbClr val="4d4d4d"/>
                </a:solidFill>
                <a:latin typeface="Arial"/>
              </a:rPr>
              <a:t>für Ihre Aufmerksamkeit!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8"/>
          <p:cNvSpPr/>
          <p:nvPr/>
        </p:nvSpPr>
        <p:spPr>
          <a:xfrm>
            <a:off x="1332000" y="2205000"/>
            <a:ext cx="6696000" cy="4032360"/>
          </a:xfrm>
          <a:prstGeom prst="rect">
            <a:avLst/>
          </a:prstGeom>
          <a:solidFill>
            <a:srgbClr val="fafafa">
              <a:alpha val="67000"/>
            </a:srgbClr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9"/>
          <p:cNvSpPr/>
          <p:nvPr/>
        </p:nvSpPr>
        <p:spPr>
          <a:xfrm>
            <a:off x="1340280" y="2205000"/>
            <a:ext cx="14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Kontak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Grafik 16" descr=""/>
          <p:cNvPicPr/>
          <p:nvPr/>
        </p:nvPicPr>
        <p:blipFill>
          <a:blip r:embed="rId2"/>
          <a:stretch/>
        </p:blipFill>
        <p:spPr>
          <a:xfrm>
            <a:off x="1417680" y="5165640"/>
            <a:ext cx="2663640" cy="1000080"/>
          </a:xfrm>
          <a:prstGeom prst="rect">
            <a:avLst/>
          </a:prstGeom>
          <a:ln w="0">
            <a:noFill/>
          </a:ln>
        </p:spPr>
      </p:pic>
      <p:pic>
        <p:nvPicPr>
          <p:cNvPr id="269" name="Grafik 17" descr=""/>
          <p:cNvPicPr/>
          <p:nvPr/>
        </p:nvPicPr>
        <p:blipFill>
          <a:blip r:embed="rId3"/>
          <a:stretch/>
        </p:blipFill>
        <p:spPr>
          <a:xfrm>
            <a:off x="6516720" y="4976640"/>
            <a:ext cx="1440000" cy="1189080"/>
          </a:xfrm>
          <a:prstGeom prst="rect">
            <a:avLst/>
          </a:prstGeom>
          <a:ln w="0">
            <a:noFill/>
          </a:ln>
        </p:spPr>
      </p:pic>
      <p:grpSp>
        <p:nvGrpSpPr>
          <p:cNvPr id="270" name="Gruppieren 8"/>
          <p:cNvGrpSpPr/>
          <p:nvPr/>
        </p:nvGrpSpPr>
        <p:grpSpPr>
          <a:xfrm>
            <a:off x="2843280" y="2421000"/>
            <a:ext cx="3754440" cy="2484360"/>
            <a:chOff x="2843280" y="2421000"/>
            <a:chExt cx="3754440" cy="2484360"/>
          </a:xfrm>
        </p:grpSpPr>
        <p:sp>
          <p:nvSpPr>
            <p:cNvPr id="271" name="Rechteck 2"/>
            <p:cNvSpPr/>
            <p:nvPr/>
          </p:nvSpPr>
          <p:spPr>
            <a:xfrm>
              <a:off x="2843280" y="2421000"/>
              <a:ext cx="3754440" cy="2413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feld 2"/>
            <p:cNvSpPr/>
            <p:nvPr/>
          </p:nvSpPr>
          <p:spPr>
            <a:xfrm>
              <a:off x="2898000" y="3459240"/>
              <a:ext cx="1656000" cy="14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c/o Universiät Passau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300"/>
              </a:b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Innstr. 39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94032 Passau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Telefon +49 851 509 2384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stephan.saedtler@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uni-passau.de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feld 21"/>
            <p:cNvSpPr/>
            <p:nvPr/>
          </p:nvSpPr>
          <p:spPr>
            <a:xfrm>
              <a:off x="4932360" y="3674880"/>
              <a:ext cx="158436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000000"/>
                  </a:solidFill>
                  <a:latin typeface="Arial"/>
                </a:rPr>
                <a:t>RA Stephan Sädtler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7f7f7f"/>
                  </a:solidFill>
                  <a:latin typeface="Arial"/>
                </a:rPr>
                <a:t>Wiss. MA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4" name="Grafik 3" descr=""/>
            <p:cNvPicPr/>
            <p:nvPr/>
          </p:nvPicPr>
          <p:blipFill>
            <a:blip r:embed="rId4"/>
            <a:stretch/>
          </p:blipFill>
          <p:spPr>
            <a:xfrm>
              <a:off x="3019320" y="2673720"/>
              <a:ext cx="1660680" cy="54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Grafik 4" descr=""/>
            <p:cNvPicPr/>
            <p:nvPr/>
          </p:nvPicPr>
          <p:blipFill>
            <a:blip r:embed="rId5"/>
            <a:stretch/>
          </p:blipFill>
          <p:spPr>
            <a:xfrm>
              <a:off x="4792680" y="2717640"/>
              <a:ext cx="1579680" cy="45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Gerade Verbindung 24"/>
            <p:cNvSpPr/>
            <p:nvPr/>
          </p:nvSpPr>
          <p:spPr>
            <a:xfrm>
              <a:off x="4792680" y="3336840"/>
              <a:ext cx="0" cy="1323720"/>
            </a:xfrm>
            <a:prstGeom prst="line">
              <a:avLst/>
            </a:prstGeom>
            <a:ln w="190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Aussgangssituation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ahllose Geschäftsmodel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 allen Lebens- und Geschäftsbereic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ternehm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brauch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wal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masse / Datenvielfa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orteile: Verfügbarkeit, Kos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achteil: Kontrollverlust, Datenschutzrecht, etc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49440" y="25992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Datenschutz und Datensicherheit im CC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schutzre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utz personenbezogener Da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rhebliche Probleme im Bereich des 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080" indent="-334080"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äumlicher Anwendungsbereich, Verbotsprinz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080" indent="-334080"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Übertragung, ADV (§ 3 VIII 3 i.V.m. § 11 BDS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080" indent="-334080"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rittstaatenverkeh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080" indent="-334080"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echnisch-organisatorische Maßnahmen (§ 9 BDSG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080" indent="-334080"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ktorspezifische Besonderhei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sicherh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utzgegen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§ 2 II BS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nittstelle im Datenschutzrecht: § 9 BDSG und Anla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sonstige Dat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Übersicht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leitung: Datenschutz und Datensicherheit im Cloud Comp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Bedeutung des IDM im Cloud Comp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schutzrechtlicher Umgang mit Identitätsda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satz elektronischer Ausweise als technisch-organisatorische Maßnahme – Projekt SkIDe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chtliche Herausforderungen und Chanc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az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Bedeutung des IDM im CC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echnische Schutzpflichten für personenbezogenen Da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§ 9 BDSG + Anl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sbes. Zugangs-, Zugriffs- und Weitergabekontrol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utzpflicht für Daten ohne Personenbezug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.B. Betriebs- und Geschäftsgeheimnis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tragliche Vereinbarung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onsti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weisrech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heitliche Empfehlungen des BSI: (siehe nächste Foli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73B275E3-589E-4FBD-9AA5-4F2AE3B1F84A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"/>
          <p:cNvPicPr/>
          <p:nvPr/>
        </p:nvPicPr>
        <p:blipFill>
          <a:blip r:embed="rId1"/>
          <a:stretch/>
        </p:blipFill>
        <p:spPr>
          <a:xfrm>
            <a:off x="324000" y="1208160"/>
            <a:ext cx="3506760" cy="49989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"/>
          <p:cNvPicPr/>
          <p:nvPr/>
        </p:nvPicPr>
        <p:blipFill>
          <a:blip r:embed="rId2"/>
          <a:stretch/>
        </p:blipFill>
        <p:spPr>
          <a:xfrm>
            <a:off x="3951360" y="1846440"/>
            <a:ext cx="5079960" cy="3238200"/>
          </a:xfrm>
          <a:prstGeom prst="rect">
            <a:avLst/>
          </a:prstGeom>
          <a:ln w="0">
            <a:noFill/>
          </a:ln>
        </p:spPr>
      </p:pic>
      <p:sp>
        <p:nvSpPr>
          <p:cNvPr id="168" name="Abgerundetes Rechteck 2"/>
          <p:cNvSpPr/>
          <p:nvPr/>
        </p:nvSpPr>
        <p:spPr>
          <a:xfrm>
            <a:off x="3951360" y="2492280"/>
            <a:ext cx="5079960" cy="5050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bgerundetes Rechteck 8"/>
          <p:cNvSpPr/>
          <p:nvPr/>
        </p:nvSpPr>
        <p:spPr>
          <a:xfrm>
            <a:off x="3951360" y="4581360"/>
            <a:ext cx="5079960" cy="5032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Übersicht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leitung: Datenschutz und Datensicherheit im Cloud Comp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deutung des IDM im Cloud Comp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Datenschutzrechtlicher Umgang mit Identitätsda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satz von elektronischer Ausweise als technisch-organisatorische Maßnahme – Forschungsprojekt „SkIDentity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chtliche Herausforderungen und Chanc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az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Datenschutzrechtlicher Umgang Identitätsdaten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rundsätzlich entsprechend Cloud-Inhal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äumlicher Anwendungsbereich, Verbotsprinz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Übermittlung, ADV § 3 VIII 3 i.V.m. § 11 BDS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Übermittlung in unsichere Drittstaa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echnisch-organisatorische Maßnahmen § 9 BDS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ktorspezifische Besonderhei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sonderes Gefährdungspotenti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terschiedliche Behandlung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13:21:52Z</dcterms:created>
  <dc:creator>Matthias  Besch, Steffen Frischat, Heidi Bahr</dc:creator>
  <dc:description/>
  <dc:language>en-US</dc:language>
  <cp:lastModifiedBy>Stephan Sädtler</cp:lastModifiedBy>
  <cp:lastPrinted>2011-02-11T13:07:56Z</cp:lastPrinted>
  <dcterms:modified xsi:type="dcterms:W3CDTF">2013-09-09T09:14:55Z</dcterms:modified>
  <cp:revision>650</cp:revision>
  <dc:subject>Unternehmenspräsentation</dc:subject>
  <dc:title>secunet</dc:title>
</cp:coreProperties>
</file>